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759-C411-440B-8967-4F2E8482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ECE-3036-434F-8498-C84D940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F33-D46A-4269-B8BE-4C603C89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B69-758C-4CD8-9667-EA739E94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C760-BDA1-4544-BE41-6102A3B1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7D64-D9D0-4610-8977-4FF2C95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51A-FF02-4118-AEDD-0186EE7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7C99-7959-430B-9ED1-AB698306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DFAB-1862-48AC-B130-592FD3F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8C67-3033-47D2-8591-2BA361A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C3A-627D-4A25-B6B4-E06B062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2A1-AC9A-4779-A53C-B4ECF46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AF5-9005-4540-BEFE-D6360EF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C259-5193-426C-B0A7-2E7F2F4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04C1-EA7E-4312-975E-0D72C99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B0DB-8114-4BFA-93C0-44F08435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6F5B-D3B5-49CE-A84B-AD5080FB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7FCF-4D6A-4D9D-A69D-D02FB5C7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FF22-2FB1-4ACC-9AF7-8AFDB8A5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8DB0-DF8B-4675-97D0-7525AA64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491B-366E-4ACF-BD80-006FC0C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DC3C-DB91-4690-A3A7-E398EEB6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334-BA79-4957-BDAE-C8E6CCBE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6DA4-097B-48DC-8015-39BF782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8AC0-F1B9-4419-B312-F0B6BC2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D33D-992A-47A4-91C9-AF2C7D2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02BE-BE09-4EB7-AF10-D4458AD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7FF4-F14A-4DC5-A53F-72604A7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E2F1-89FB-45BF-86E4-834C4BB1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F8B5-0BD3-4E0D-BB86-208DD68F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069-B3C1-4A5D-863F-8753EFDB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679-06DB-44E7-8D31-B655F2B3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E96-BE6C-431E-A4B6-66F96ED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87C-12C8-414A-8CAC-B2C7EB8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3C3-0767-4671-B828-A484926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63C-E2FB-4FE6-BBF1-7C893F7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771D3C93-0AE9-4E8C-BB96-102F460F2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BC3-26B8-4428-BD1C-6DE534A44A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33E1712C-97B7-4066-BC0B-D68E0E07C9F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E95-B8D2-402E-AD18-553A6EF04861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6nh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3 de juni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Ser y Es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Repaso de la Tarea 6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5439C3ED-AB1D-4351-A1F5-B4E93309B06B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331B2C8-8131-4EEF-938A-D98CFC9150A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6BB82CA8-F31B-4321-B6F2-4EB4D92CF0DF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A7A635AE-D857-484C-937E-15F2DFC7FB2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6C2DAA7-2187-4DBD-B32A-88B0A827916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448D871-E8A9-45FF-AA81-A2EAF5002C0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sentences with the verb SER for each of the conditions given to you today in class (14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ora y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e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           </a:t>
            </a:r>
            <a:fld id="{380DA36D-0CB1-44C0-8F2B-11FBDA9F8BBB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42125BDA-D234-494E-BDB9-99FF591DEF09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8E11111F-1B8F-40A2-A1FA-087A6675641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F185EC7-C22F-4C79-A92F-E4AB3093F5CB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3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B080D36-F5BD-4929-8D7C-72C1C563EF48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566D8EA1-DD71-407D-822E-572904540FC9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C07356F-844F-4772-9B0C-A1109D38F467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316C699C-8B8F-4690-BB82-2B9F32C92DA4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7A96621E-807D-429B-8E7A-DB2DD441DD0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dcterms:modified xsi:type="dcterms:W3CDTF">2013-06-03T21:30:40Z</dcterms:modified>
  <cp:revision>91</cp:revision>
  <dc:subject/>
  <dc:title>Ser &amp; Estar</dc:title>
</cp:coreProperties>
</file>